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F4C1A-D300-4B3D-85A6-A70F3CF15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08786-F3A1-4FE6-9E6A-1ED456A40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FB1B0-CB2E-426C-BCA6-43777B40A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304A7-B496-4021-AB1E-BD71ED634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D8F49-7070-42D8-9A6C-D7F2F18725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FF88B-F2BC-4179-8FE1-2DA92A4BE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1A343-AD83-474D-A4C6-C4C38FD50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81AD0-9A74-495A-8193-CD5E69E18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87CFA-B4AC-4B5B-9B21-9CBA7CD31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13E8E-C438-40BF-9936-22E69FFE7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F8D54-AA95-4A57-A7B3-D3C97D4C4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2A0D6-FE64-4F4D-87C8-530FE4A30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B2519-7E0A-468D-9C21-9C198ADF1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EA8EB-D621-4D1E-96CF-D7A2EE75D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FADC3-FFF2-44F8-B999-DA16BAD3E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B34DE-EF67-4638-9B15-E47B4A1D1F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A29D5-A7C5-4D0A-A514-22B05194D1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E7661-7678-4CC3-8201-09C3A801D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2C74A-D8CD-415E-A89F-7C217467C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B7ABB-C84D-49D3-A20D-9EA77C6F9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9A96E-BA05-4C09-AA83-C9954DBE9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5329E-3DB5-4D82-9A44-487C21A8C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0CAF8-FB59-40D3-8785-4DE0976A1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D9BC8-8188-4537-8CA3-902FC2AD4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E9DB-F824-4521-B666-BB39189991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2956-6095-43FA-9A9F-3FC1489ED3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Ecosystems</a:t>
            </a:r>
            <a:endParaRPr b="0" lang="en-US" sz="60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specia, Vannisa</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abit, Medelette</a:t>
            </a:r>
            <a:endParaRPr b="0" lang="en-US" sz="3600" spc="-1" strike="noStrike">
              <a:solidFill>
                <a:srgbClr val="ffffff"/>
              </a:solidFill>
              <a:latin typeface="Arial"/>
            </a:endParaRPr>
          </a:p>
        </p:txBody>
      </p:sp>
    </p:spTree>
  </p:cSld>
  <p:transition spd="slow">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my students will gain from the assessment</a:t>
            </a: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students will gain an opportunity to help preserve and protect our ecosystem from harm</a:t>
            </a:r>
            <a:endParaRPr b="0" lang="en-US" sz="4000" spc="-1" strike="noStrike">
              <a:solidFill>
                <a:srgbClr val="ffffff"/>
              </a:solidFill>
              <a:latin typeface="Arial"/>
            </a:endParaRPr>
          </a:p>
        </p:txBody>
      </p:sp>
    </p:spTree>
  </p:cSld>
  <p:transition spd="slow">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y Goals</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orporate to the learners the importance of ecosystem in our l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 different ways on how to utilize in making project based learn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t’s Have a Great Year!</a:t>
            </a:r>
            <a:endParaRPr b="0" lang="en-US" sz="4400" spc="-1" strike="noStrike">
              <a:solidFill>
                <a:srgbClr val="ffffff"/>
              </a:solidFill>
              <a:latin typeface="Arial"/>
            </a:endParaRPr>
          </a:p>
        </p:txBody>
      </p:sp>
      <p:pic>
        <p:nvPicPr>
          <p:cNvPr id="183" name="" descr=""/>
          <p:cNvPicPr/>
          <p:nvPr/>
        </p:nvPicPr>
        <p:blipFill>
          <a:blip r:embed="rId1"/>
          <a:stretch/>
        </p:blipFill>
        <p:spPr>
          <a:xfrm>
            <a:off x="609480" y="1523880"/>
            <a:ext cx="8229600" cy="4606920"/>
          </a:xfrm>
          <a:prstGeom prst="rect">
            <a:avLst/>
          </a:prstGeom>
          <a:ln w="0">
            <a:noFill/>
          </a:ln>
        </p:spPr>
      </p:pic>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it Plan Summary:</a:t>
            </a:r>
            <a:endParaRPr b="0" lang="en-US" sz="40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200" spc="-1" strike="noStrike">
                <a:solidFill>
                  <a:srgbClr val="ffffff"/>
                </a:solidFill>
                <a:latin typeface="Arial"/>
              </a:rPr>
              <a:t>Organisms occupying a habitat interact with each other. They also affect, affect and in turn, affected by the physical environment. Humans have always lived in communities all their lives. They affect not only individuals of their own kind and other living things in the community. </a:t>
            </a:r>
            <a:endParaRPr b="0" lang="en-US" sz="3200" spc="-1" strike="noStrike">
              <a:solidFill>
                <a:srgbClr val="ffffff"/>
              </a:solidFill>
              <a:latin typeface="Arial"/>
            </a:endParaRPr>
          </a:p>
        </p:txBody>
      </p:sp>
    </p:spTree>
  </p:cSld>
  <p:transition spd="slow">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heir behavior and activities also affect the physical environment. In this unit, we will study the characteristics of different ecosystems and the effects of people’s activity on them.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ssential Question</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y do we need to have a good management in our ecosystem? </a:t>
            </a:r>
            <a:endParaRPr b="0" lang="en-US" sz="4000" spc="-1" strike="noStrike">
              <a:solidFill>
                <a:srgbClr val="ffffff"/>
              </a:solidFill>
              <a:latin typeface="Arial"/>
            </a:endParaRPr>
          </a:p>
        </p:txBody>
      </p:sp>
    </p:spTree>
  </p:cSld>
  <p:transition spd="slow">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Times New Roman"/>
              </a:rPr>
              <a:t>Unit Question</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do organisms inhabit these places (forests, lake, decaying log et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you know of any place in which do organisms liv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characteristic of that place? </a:t>
            </a:r>
            <a:endParaRPr b="0" lang="en-US" sz="3200" spc="-1" strike="noStrike">
              <a:solidFill>
                <a:srgbClr val="ffffff"/>
              </a:solidFill>
              <a:latin typeface="Arial"/>
            </a:endParaRPr>
          </a:p>
        </p:txBody>
      </p:sp>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00"/>
                </a:solidFill>
                <a:latin typeface="Arial"/>
                <a:ea typeface="Times New Roman"/>
              </a:rPr>
              <a:t>Content Questions</a:t>
            </a:r>
            <a:br>
              <a:rPr sz="4000"/>
            </a:br>
            <a:endParaRPr b="0" lang="en-US" sz="40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ich ecosystem has more species of plants and animals?</a:t>
            </a:r>
            <a:endParaRPr b="0" lang="en-US" sz="32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ich ecosystem requires human inputs?</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is a natural ecosystem? A human- made or managed ecosystem? </a:t>
            </a:r>
            <a:endParaRPr b="0" lang="en-US" sz="2800" spc="-1" strike="noStrike">
              <a:solidFill>
                <a:srgbClr val="ffffff"/>
              </a:solidFill>
              <a:latin typeface="Arial"/>
            </a:endParaRPr>
          </a:p>
        </p:txBody>
      </p:sp>
    </p:spTree>
  </p:cSld>
  <p:transition spd="slow">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enefits of Using Project Approaches, Ongoing Assessment, and CFQs in My Unit</a:t>
            </a:r>
            <a:endParaRPr b="0" lang="en-US" sz="32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udents will understand the basic concepts in our ecosystem and it’s importance.</a:t>
            </a:r>
            <a:endParaRPr b="0" lang="en-US" sz="4000" spc="-1" strike="noStrike">
              <a:solidFill>
                <a:srgbClr val="ffffff"/>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35880" indent="-335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udents will creative outputs that address the need of saving our ecosystem</a:t>
            </a:r>
            <a:endParaRPr b="0" lang="en-US" sz="4000" spc="-1" strike="noStrike">
              <a:solidFill>
                <a:srgbClr val="ffffff"/>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spd="slow">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auging Student Needs Assessment</a:t>
            </a:r>
            <a:br>
              <a:rPr sz="4000"/>
            </a:b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Arial"/>
              </a:rPr>
              <a:t>I will use my Essential and Unit Questions to: </a:t>
            </a:r>
            <a:endParaRPr b="0" lang="en-US" sz="3200" spc="-1" strike="noStrike">
              <a:solidFill>
                <a:srgbClr val="ffffff"/>
              </a:solidFill>
              <a:latin typeface="Arial"/>
            </a:endParaRPr>
          </a:p>
          <a:p>
            <a:pPr marL="343080" indent="-343080">
              <a:lnSpc>
                <a:spcPct val="100000"/>
              </a:lnSpc>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Arial"/>
              </a:rPr>
              <a:t>See the different effects of harming the nature.</a:t>
            </a:r>
            <a:endParaRPr b="0" lang="en-US" sz="3200" spc="-1" strike="noStrike">
              <a:solidFill>
                <a:srgbClr val="ffffff"/>
              </a:solidFill>
              <a:latin typeface="Arial"/>
            </a:endParaRPr>
          </a:p>
          <a:p>
            <a:pPr marL="343080" indent="-343080">
              <a:lnSpc>
                <a:spcPct val="100000"/>
              </a:lnSpc>
              <a:spcBef>
                <a:spcPts val="2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Arial"/>
              </a:rPr>
              <a:t>Discover the different things they can do to prevent environmental problems in the society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22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To enhance the capability of the student to make any actions in this kind of situation</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9:23:29Z</dcterms:created>
  <dc:creator>nave1386</dc:creator>
  <dc:description/>
  <dc:language>en-US</dc:language>
  <cp:lastModifiedBy>nave1386</cp:lastModifiedBy>
  <dcterms:modified xsi:type="dcterms:W3CDTF">2010-09-03T19:54:50Z</dcterms:modified>
  <cp:revision>4</cp:revision>
  <dc:subject/>
  <dc:title>Slide 1</dc:title>
</cp:coreProperties>
</file>